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0270-2063-479F-84A0-278150565262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7135-8376-4A88-A708-F84628649BF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4713-EAED-44D4-A324-9BB856FFF55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29F2-D107-4746-908D-3FA3BECF95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2561-3800-4A33-93B5-B6048B2138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BCC0-DBB2-4705-8A8C-2E6F594E95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E9CD-24FD-49D3-9D18-9AA29FFD21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C983-C668-47D7-A05F-13919573D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5A08-5A56-49EE-8BCF-C432328D7E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F4DE-9C2B-4EE9-8267-70699D3947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7C76-478B-4ED7-BD2C-F657CC4FE3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7ED2-538F-43D6-AE86-7549AFF9A8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6D67-CEAC-46E0-BFC5-F5F83D9DCA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D439-2975-4BFC-BC22-6D9E87BA38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E6BC-CE0D-48AD-A8A7-C216BE8F3D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49FE-4215-4287-8E0D-24BA9DEE25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90FA-5D4D-4B11-94EF-79CAA6C277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F435-817B-4927-93C3-51F178841E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C64B-2D86-45D0-9CCB-4B90D1037D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54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57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E407-AACC-470C-AA81-C5C480A515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EC45-C773-4DFD-80BB-D0A86133C5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CEB-95D5-42E6-9AD3-EAA8EC2C72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5F9-99AF-40B8-8017-63157FE3B1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F578-D1C6-40D1-A07E-AB08FDB780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6B7-EE24-4EB0-AB6B-1D2BFA9A41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3A9F-FB70-43AD-9DE2-5B8F85CED1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63"/>
          <p:cNvSpPr/>
          <p:nvPr/>
        </p:nvSpPr>
        <p:spPr>
          <a:xfrm>
            <a:off x="647640" y="44830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ED4C-7E20-45CE-8B75-BAF9E477AD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491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5D6D-BCA6-4C5D-A3BD-352EA93CCA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7E2E-D96F-4C1D-AE9A-93C06B7B65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4087-B769-435C-ACF2-F452A48FB5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476440" y="739152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8BB0-215C-4351-A157-9A73C269B8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33DB-9112-4049-9608-913A41F01A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F225-FDE2-4BBF-9759-5270096F04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1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26D0-8125-4190-A1D1-D18A26226F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DBE3-D7BB-4691-931F-8C93A3EF6B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D890-B521-4E1E-95E5-8197F6631C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8802-5851-45A1-A80C-6FB3B1523A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E82E-4D48-4999-9DDC-634C3D3CB5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33EE-64BC-4AB0-93F3-340892E0B3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1A15-9B89-4D89-A78F-295B02D184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4D93-86BC-4FE9-80D8-77411692DA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DCEB-7787-46F4-98CD-60CB8571A5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81DF-D7AD-48D5-8446-AA24D0CC0E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36A-E316-4E5B-8844-F3F1B5266A6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870A-4CE3-4518-A943-074114B903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2A6A-35FB-432F-AF9D-1AC5D342CB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4BB2-FF3E-466C-A627-8F4F12EEA0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47D-D1D5-4B8B-87BD-A8FCDC35A6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28DA-E325-4285-A956-EB90DE67DC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DE3F-FBC4-4D16-B82D-706CEC14C1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0921-00E7-4E97-816E-8709FC9A05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42A3-D33D-4E49-8DFC-F370E46E00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FD1-C267-47F9-B538-8FE241F14B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CD29-9126-449C-ADA6-5B9C1EE099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AB58-6AB7-42F6-881C-27FC3910F7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430-1DAA-4E27-B5BE-8BC62EAF6A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1B64-1030-412E-A586-5BAB5B1D07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FB91-CFA0-4103-97A8-A53C784BBC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2A82-BC12-42C3-8BE9-104DF288BF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CE20-5B77-4AC8-A4EE-98B7BC33A0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C5A-2DCA-40C2-A326-36A568CEC3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E831-14AB-4D3F-8F26-A64A17EBEF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24:53Z</dcterms:created>
  <dc:creator/>
  <dc:description/>
  <cp:keywords/>
  <dc:language>en-US</dc:language>
  <cp:lastModifiedBy>Sebastian Rudolph</cp:lastModifiedBy>
  <dcterms:modified xsi:type="dcterms:W3CDTF">2008-11-05T15:12:55Z</dcterms:modified>
  <cp:revision>8</cp:revision>
  <dc:subject/>
  <dc:title>Grundlagen Semantic Web</dc:title>
</cp:coreProperties>
</file>